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F903-D756-4860-BC4E-0D1DFD5F1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BE23-AE30-46B5-A1C1-AC9A86DC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0AD-D639-4C28-A815-85007A4F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678-E03A-4482-8B46-396B22E8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1E4-D23C-466E-8575-D7625423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10F-3162-4E04-A930-B43BB6C4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0AA-2AAA-44DA-A76B-01BBEAE0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F4C-1586-4E5E-99C3-AE6AF616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748-66C2-434B-8AA0-0EF0551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83A-5F81-404B-A030-CEE1EED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D4B-60B0-479B-B5EE-247163B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D26-2EBB-4DEB-A052-D54A133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7B7-C87C-409D-A653-9CCABF67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255-6508-4D0C-B82C-F0A9E9F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456-837E-4695-871C-3E8DFB4B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amigas! Que tal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res compra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19Z</dcterms:modified>
  <cp:revision>103</cp:revision>
  <dc:subject/>
  <dc:title>Profile</dc:title>
</cp:coreProperties>
</file>